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867-0988-4ACD-839E-25D01CFB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110-F215-41BC-A5A6-D50500B8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1AA-0A60-46F0-94C7-8C683C55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178-497C-43D1-871A-E02D5991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2E8-96DB-4F68-9A75-3EFF3E08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E83-3FCA-4305-891D-28397261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022-810C-403C-997D-B7FEFBD8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E54-73FE-444A-AAA0-55091A99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B51-473A-4F00-A643-D10E3D27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F54-4E17-40F1-9790-60C139CC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9F9-4CC9-46E4-825C-F274D39C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1FC-D3CD-449E-88E4-F591BEF8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BB6A-379C-4B3F-BDE2-9730C6CAD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Teacher Left Behi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reating Professional Development      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for Transfer to Classroom Practic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18288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ing Thin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your schools purpo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he advantages / disadvantages of each system when thinking about alignment to your purpo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 Expec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 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 Study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 information from class – study your current plan to identify most important gaps in curr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 information from class – generate ideas for improving your current improvement plan and 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ight be some targets that would indicate you have made improvement in your plan with some specific 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nd post one essential question about transfer and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-30-15 metacognition and sh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 your school goals you will accomplish during this course with a PD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andsh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means to sort of squeeze their hand, not too hard that their hand turns blue, then shake it firm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means that someone is sending you the message that they are serio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can also be construed to mean “we’re in agreement” or even that an informal contract has been reached, as in the proverbial handshake deal. And on a still deeper level, it can mean “everything’s OK between us.</a:t>
            </a:r>
            <a:br>
              <a:rPr sz="1300"/>
            </a:br>
            <a:br>
              <a:rPr sz="1300"/>
            </a:b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shake 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eye contact with someone that you are not sitting n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yourself to your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de what your handshake might mean and complete a handsh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d to the prom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a new partner and repeat th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shake Prom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tells us that only 10% of all teacher training is used in the classroom.  What is your theory on why this is occu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 you and your previous partner’s theory on why only 10% of training transfers to the classroom.  Discuss who owns this issue and what should the owner do about the iss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 your needs and expectations for this cour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your le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leave no teacher behind, you will need to change you perspective on what and how we do profession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ere is more than one right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yourself in the right place to maximize your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your technical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CREA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urn the ordinary into extraordi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standing Y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why you have decided to come as individuals and as a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each person provide for the team what is to important to their personal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leave a team member behind you decrease your chance of success significantly what one norm will you abide by in order to ensure no one is left beh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ining Advance Organizer, PD Calend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visual most represents your curren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view details"/>
          <p:cNvPicPr/>
          <p:nvPr/>
        </p:nvPicPr>
        <p:blipFill>
          <a:blip r:embed="rId1"/>
          <a:stretch/>
        </p:blipFill>
        <p:spPr>
          <a:xfrm>
            <a:off x="457200" y="220968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57" name="Oval 4"/>
          <p:cNvSpPr/>
          <p:nvPr/>
        </p:nvSpPr>
        <p:spPr>
          <a:xfrm>
            <a:off x="4419720" y="2057400"/>
            <a:ext cx="3504960" cy="3352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5029200" y="2438280"/>
            <a:ext cx="2286000" cy="26672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5486400" y="3048120"/>
            <a:ext cx="1447920" cy="144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agram 3" descr=""/>
          <p:cNvPicPr/>
          <p:nvPr/>
        </p:nvPicPr>
        <p:blipFill>
          <a:blip r:embed="rId1"/>
          <a:stretch/>
        </p:blipFill>
        <p:spPr>
          <a:xfrm>
            <a:off x="603360" y="573120"/>
            <a:ext cx="8321400" cy="605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2209680" y="1523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dating and Monitoring Improvement Process and Innovation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666880" y="29718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dating and Monitoring Improvement Focus and Innovatio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352680" y="5257800"/>
            <a:ext cx="28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sting and Monitoring  Improvement  Strategies and  In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0" y="685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al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22860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629400" y="609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ding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7696080" y="26668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6629400" y="565776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ing Collaborativ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9:16:39Z</dcterms:created>
  <dc:creator>Debra Webb</dc:creator>
  <dc:description/>
  <dc:language>en-US</dc:language>
  <cp:lastModifiedBy>Debra Webb</cp:lastModifiedBy>
  <dcterms:modified xsi:type="dcterms:W3CDTF">2012-03-07T22:08:47Z</dcterms:modified>
  <cp:revision>31</cp:revision>
  <dc:subject/>
  <dc:title>No Teacher Left Behind</dc:title>
</cp:coreProperties>
</file>